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CB58-A84A-4777-8B79-C98EA200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D2E7-2474-4524-8BB0-6C42B96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2A3B-EB52-4CDF-A64C-52AC870C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6446-8B62-4D33-B400-DE171B28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09A-A05C-4684-B138-0299179D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F518-8479-4A57-A3C7-B06DA99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8A4D-D503-4301-9A5D-2CE176BE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624-757B-45A6-88C1-2D424CD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74AA-D52C-4D12-A1B2-ABC55E4C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9E10-9A78-4CBA-ABD9-9A4CCDB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0879-8ED4-46F3-B9A2-6D5E861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7052-DAA5-45D0-8104-D7709E89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C583-ABDC-4C8E-9CFF-DFA3702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C5F1-0258-4CF3-B5D1-561A09A9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235-9819-47E4-943B-79B0593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DDD3-8B34-4B21-B22E-F58E9CF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537-F475-4FC6-A6FB-0EE0996B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A34C-DA0B-4C6F-80F1-529FBE4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1B18-33B1-4970-989F-E997253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E0E2-9BA8-4DF3-AB10-7419521A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6C08-C75E-4F03-B77D-7FB6CF2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B860-4550-49A6-A92E-11FE969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712C-F683-4AB3-8BB2-FD78202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7833-960A-46A9-9E76-6BBFA64E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48A-FE87-476B-91B5-0B73CD6ED5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2BF9-1489-4E33-BC3E-ED32A36134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4292280"/>
            <a:ext cx="6019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ставитель: ученик 10 класса Гришин Н.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lip_image013"/>
          <p:cNvPicPr/>
          <p:nvPr/>
        </p:nvPicPr>
        <p:blipFill>
          <a:blip r:embed="rId1"/>
          <a:stretch/>
        </p:blipFill>
        <p:spPr>
          <a:xfrm>
            <a:off x="928800" y="464328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lip_image015"/>
          <p:cNvPicPr/>
          <p:nvPr/>
        </p:nvPicPr>
        <p:blipFill>
          <a:blip r:embed="rId2"/>
          <a:stretch/>
        </p:blipFill>
        <p:spPr>
          <a:xfrm>
            <a:off x="6588000" y="5373720"/>
            <a:ext cx="1428840" cy="136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t-byu"/>
          <p:cNvPicPr/>
          <p:nvPr/>
        </p:nvPicPr>
        <p:blipFill>
          <a:blip r:embed="rId3"/>
          <a:stretch/>
        </p:blipFill>
        <p:spPr>
          <a:xfrm>
            <a:off x="3564000" y="5445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WordArt 9"/>
          <p:cNvSpPr txBox="1"/>
          <p:nvPr/>
        </p:nvSpPr>
        <p:spPr>
          <a:xfrm>
            <a:off x="2268360" y="2637000"/>
            <a:ext cx="66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сокрыто в замерзшей во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24000" y="1628640"/>
            <a:ext cx="561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растут из испарений воды. Снежные кристаллы образуются, когда испарения воды конденсируются непосредственно в лёд, что случается в облаках. Снежинки возникают вследствие роста кристаллов. Самая основная форма кристаллического снега – шестиугольная призма. Шестиугольная призма может быть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пластин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или </a:t>
            </a: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столбчатой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, что зависит от скорости роста поверхностей.</a:t>
            </a: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Рисунок 8" descr="Разновидности призм в зависимости от их роста"/>
          <p:cNvPicPr/>
          <p:nvPr/>
        </p:nvPicPr>
        <p:blipFill>
          <a:blip r:embed="rId1"/>
          <a:stretch/>
        </p:blipFill>
        <p:spPr>
          <a:xfrm>
            <a:off x="5292720" y="2565360"/>
            <a:ext cx="37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WordArt 6"/>
          <p:cNvSpPr txBox="1"/>
          <p:nvPr/>
        </p:nvSpPr>
        <p:spPr>
          <a:xfrm>
            <a:off x="468360" y="907920"/>
            <a:ext cx="828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чего сделан лед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снежин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Плотная масса льда обычно поликристаллическая, т.е. состоит из множества отдельных кристаллов. Иногда эти кристаллы можно различить в тающем льду. Тогда видно, что лед состоит как бы из "карандашиков", сросшихся вместе: шестигранные столбики параллельны друг другу и стоят торчком к поверхности воды; эти "карандашики" и есть кристаллики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roldjye"/>
          <p:cNvPicPr/>
          <p:nvPr/>
        </p:nvPicPr>
        <p:blipFill>
          <a:blip r:embed="rId1"/>
          <a:stretch/>
        </p:blipFill>
        <p:spPr>
          <a:xfrm>
            <a:off x="1042920" y="4365720"/>
            <a:ext cx="271476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lip_image034"/>
          <p:cNvPicPr/>
          <p:nvPr/>
        </p:nvPicPr>
        <p:blipFill>
          <a:blip r:embed="rId2"/>
          <a:stretch/>
        </p:blipFill>
        <p:spPr>
          <a:xfrm>
            <a:off x="4932360" y="43657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Объект WordArt 7"/>
          <p:cNvSpPr txBox="1"/>
          <p:nvPr/>
        </p:nvSpPr>
        <p:spPr>
          <a:xfrm>
            <a:off x="1835280" y="11592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чего сделан ле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7120" y="259920"/>
            <a:ext cx="4430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Очень опасны для растений весенние или осенние заморозки. Температура почвы и воздуха падает ниже нуля, подпочвенные воды и соки растений замерзают, образуя иголочки кристалликов льда. Эти острые иголки рвут нежные ткани растений, листья сморщиваются, чернеют, стебли и корни разру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lip_image005"/>
          <p:cNvPicPr/>
          <p:nvPr/>
        </p:nvPicPr>
        <p:blipFill>
          <a:blip r:embed="rId1"/>
          <a:stretch/>
        </p:blipFill>
        <p:spPr>
          <a:xfrm>
            <a:off x="5508720" y="476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lip_image007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844280"/>
            <a:ext cx="453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В словаре Ожегова определение такое: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НЕЙ - тонкий снежный слой, образующийся благодаря испарениям на охлаждающейся поверхности в холодные ночи.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К и ПОЧЕМУ он образу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pimg_236_1085"/>
          <p:cNvPicPr/>
          <p:nvPr/>
        </p:nvPicPr>
        <p:blipFill>
          <a:blip r:embed="rId1"/>
          <a:stretch/>
        </p:blipFill>
        <p:spPr>
          <a:xfrm>
            <a:off x="4284720" y="333360"/>
            <a:ext cx="2158920" cy="194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lip_image011"/>
          <p:cNvPicPr/>
          <p:nvPr/>
        </p:nvPicPr>
        <p:blipFill>
          <a:blip r:embed="rId2"/>
          <a:stretch/>
        </p:blipFill>
        <p:spPr>
          <a:xfrm>
            <a:off x="6588000" y="119700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lip_image0567"/>
          <p:cNvPicPr/>
          <p:nvPr/>
        </p:nvPicPr>
        <p:blipFill>
          <a:blip r:embed="rId3"/>
          <a:srcRect l="0" t="656" r="0" b="656"/>
          <a:stretch/>
        </p:blipFill>
        <p:spPr>
          <a:xfrm>
            <a:off x="5796000" y="4221000"/>
            <a:ext cx="2208240" cy="2459160"/>
          </a:xfrm>
          <a:prstGeom prst="rect">
            <a:avLst/>
          </a:prstGeom>
          <a:ln w="0">
            <a:noFill/>
          </a:ln>
        </p:spPr>
      </p:pic>
      <p:sp>
        <p:nvSpPr>
          <p:cNvPr id="124" name="Объект WordArt 7"/>
          <p:cNvSpPr txBox="1"/>
          <p:nvPr/>
        </p:nvSpPr>
        <p:spPr>
          <a:xfrm>
            <a:off x="395280" y="620640"/>
            <a:ext cx="3514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что такое ине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3212640"/>
            <a:ext cx="8785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В жилом помещении в воздухе есть молекулы воды и любое окно в морозы будет холоднее стен. Влага из теплого воздуха попадает на холодное стекло и остается там в виде капелек воды, которые при сильных морозах превращаются в кристаллики льда. И вот, что еще интересно: иней никогда не образуется на тонких ветвистых предметах. А то, что осаждается на проводах, на ветках кустов и деревьев, называется - изморозь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pimg_234_1085"/>
          <p:cNvPicPr/>
          <p:nvPr/>
        </p:nvPicPr>
        <p:blipFill>
          <a:blip r:embed="rId1"/>
          <a:stretch/>
        </p:blipFill>
        <p:spPr>
          <a:xfrm>
            <a:off x="5364000" y="83664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pimg_235_1085"/>
          <p:cNvPicPr/>
          <p:nvPr/>
        </p:nvPicPr>
        <p:blipFill>
          <a:blip r:embed="rId2"/>
          <a:stretch/>
        </p:blipFill>
        <p:spPr>
          <a:xfrm>
            <a:off x="1258920" y="62064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92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Снежинки - это кристаллы льда, точнее сростки простейших кристалликов льда - иголочек и пластинок. Снежинки образуются из перенасыщенного водяного пара. Центрами кристаллизации являются взвешенные в воздухе пылинки.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WordArt 5"/>
          <p:cNvSpPr txBox="1"/>
          <p:nvPr/>
        </p:nvSpPr>
        <p:spPr>
          <a:xfrm>
            <a:off x="1619280" y="33336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снежинка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Объект WordArt 7"/>
          <p:cNvSpPr txBox="1"/>
          <p:nvPr/>
        </p:nvSpPr>
        <p:spPr>
          <a:xfrm>
            <a:off x="1258920" y="364500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Поле 8"/>
          <p:cNvSpPr/>
          <p:nvPr/>
        </p:nvSpPr>
        <p:spPr>
          <a:xfrm>
            <a:off x="755640" y="4581360"/>
            <a:ext cx="81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ногим, наверное, известно, что встретить в природе пару идентичных снежинок невозможно, но они могут быть очень похож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роение молекулы воды представляет собой тетраэдр (шестиугольник). Между лучами кристаллов возможны лишь углы 60 и 120 градусов. Впоследствии на вершинах этого шестиугольника оседают новые молекулы, образуя тем самым причудливые формы снежинок. В процессе перемещения в атмосфере, а также под воздействием перепада температур кристаллы могут частично подтаивать и снова замерзать, образуя смешанные формы узоров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ъект WordArt 4"/>
          <p:cNvSpPr txBox="1"/>
          <p:nvPr/>
        </p:nvSpPr>
        <p:spPr>
          <a:xfrm>
            <a:off x="1476360" y="549360"/>
            <a:ext cx="6180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инаковые ли снежинк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инки,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снежные кристаллы образуются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зо льд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WordArt 4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Рисунок 5" descr="Кристаллическая структура льда"/>
          <p:cNvPicPr/>
          <p:nvPr/>
        </p:nvPicPr>
        <p:blipFill>
          <a:blip r:embed="rId1"/>
          <a:stretch/>
        </p:blipFill>
        <p:spPr>
          <a:xfrm>
            <a:off x="324000" y="2637000"/>
            <a:ext cx="254952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6"/>
          <p:cNvSpPr/>
          <p:nvPr/>
        </p:nvSpPr>
        <p:spPr>
          <a:xfrm>
            <a:off x="395280" y="4076640"/>
            <a:ext cx="806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труктура кристаллов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олекулы воды в кристалле льда формируют шестиугольную решётку. Красные шары – атомы кислорода. Серые палочки – атомы водорода. По два водорода на один кислород – Н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ъект WordArt 7"/>
          <p:cNvSpPr txBox="1"/>
          <p:nvPr/>
        </p:nvSpPr>
        <p:spPr>
          <a:xfrm>
            <a:off x="108000" y="549360"/>
            <a:ext cx="90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отличаются снежинки и кристаллы льд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4:40:46Z</dcterms:created>
  <dc:creator>26091</dc:creator>
  <dc:description/>
  <dc:language>en-US</dc:language>
  <cp:lastModifiedBy>26091</cp:lastModifiedBy>
  <dcterms:modified xsi:type="dcterms:W3CDTF">2010-06-03T13:42:10Z</dcterms:modified>
  <cp:revision>41</cp:revision>
  <dc:subject/>
  <dc:title>Что сокрыто в замерзшей воде</dc:title>
</cp:coreProperties>
</file>